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applause.wav" ContentType="audio/x-wav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2442960" y="638280"/>
            <a:ext cx="56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zh  ch  sh r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79280" y="2697120"/>
            <a:ext cx="8964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         </a:t>
            </a: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zh   ch   sh  r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      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         </a:t>
            </a: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zhi   chi  shi  ri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6720" y="981000"/>
            <a:ext cx="82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  一  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43040" y="285444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Calibri"/>
                <a:ea typeface="黑体"/>
              </a:rPr>
              <a:t>声母 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25440" y="4726080"/>
            <a:ext cx="226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Calibri"/>
                <a:ea typeface="黑体"/>
              </a:rPr>
              <a:t>整体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Calibri"/>
                <a:ea typeface="黑体"/>
              </a:rPr>
              <a:t>   </a:t>
            </a:r>
            <a:r>
              <a:rPr b="1" lang="zh-CN" sz="4800" spc="-1" strike="noStrike">
                <a:solidFill>
                  <a:srgbClr val="ff5050"/>
                </a:solidFill>
                <a:latin typeface="Calibri"/>
                <a:ea typeface="黑体"/>
              </a:rPr>
              <a:t>读音节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939960" y="817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整 体 认 读 音 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878040" y="1700280"/>
            <a:ext cx="826596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zh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 zhī  zhí  zhǐ  zh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ch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chī  chí  chǐ  chì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sh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shī  shí  shǐ  sh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r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   rī      rí     rǐ     rì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4068720" y="1125360"/>
            <a:ext cx="266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比一比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69800" y="371808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c  c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41440" y="515772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s  s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861080" y="22845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zi zh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861080" y="37180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ci ch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861080" y="515772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si sh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9800" y="2297160"/>
            <a:ext cx="41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z  z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9" descr="girl3"/>
          <p:cNvPicPr/>
          <p:nvPr/>
        </p:nvPicPr>
        <p:blipFill>
          <a:blip r:embed="rId1"/>
          <a:stretch/>
        </p:blipFill>
        <p:spPr>
          <a:xfrm>
            <a:off x="7240680" y="4591080"/>
            <a:ext cx="1592280" cy="1871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6637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685800" y="851040"/>
            <a:ext cx="7723080" cy="5329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057400" y="1295280"/>
            <a:ext cx="115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alibri"/>
                <a:ea typeface="黑体"/>
              </a:rPr>
              <a:t>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alibri"/>
                <a:ea typeface="黑体"/>
              </a:rPr>
              <a:t>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alibri"/>
                <a:ea typeface="黑体"/>
              </a:rPr>
              <a:t>令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80000" y="139392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ì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 shì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s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   shì   sh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sì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s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ì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  sh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sì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sì  bù  dú  sì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ì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bù  dú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shí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s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同侧圆角矩形 5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05"/>
          <p:cNvPicPr/>
          <p:nvPr/>
        </p:nvPicPr>
        <p:blipFill>
          <a:blip r:embed="rId1"/>
          <a:stretch/>
        </p:blipFill>
        <p:spPr>
          <a:xfrm>
            <a:off x="108000" y="1054080"/>
            <a:ext cx="8966160" cy="5334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914400" y="4267080"/>
            <a:ext cx="731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lu    re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900000" y="2709720"/>
            <a:ext cx="6353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"/>
              </a:rPr>
              <a:t>看谁读得最准</a:t>
            </a:r>
            <a:endParaRPr b="1" lang="en-US" sz="60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日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55640" y="50720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alibri"/>
              </a:rPr>
              <a:t>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708360" y="50007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380360" y="3573360"/>
            <a:ext cx="1041480" cy="11350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入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644240" y="177336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18240" y="1844640"/>
            <a:ext cx="58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795400" y="1773360"/>
            <a:ext cx="122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483160" y="177336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279680" y="179064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1299240" y="17874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6624720" y="17733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233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237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241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245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249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65320" y="1052640"/>
            <a:ext cx="6933960" cy="5274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只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船，扬白帆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飘呀飘呀到台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接来台湾小朋友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到我学校玩一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伸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出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双手紧紧握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热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情的话儿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60720" y="162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987640" y="45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629080" y="52293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429080" y="5302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468360" y="981000"/>
            <a:ext cx="4075200" cy="2608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981000"/>
            <a:ext cx="3095640" cy="26798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484360" y="3789360"/>
            <a:ext cx="5832720" cy="1440"/>
            <a:chOff x="2484360" y="3789360"/>
            <a:chExt cx="5832720" cy="1440"/>
          </a:xfrm>
        </p:grpSpPr>
        <p:sp>
          <p:nvSpPr>
            <p:cNvPr id="48" name="Line 4"/>
            <p:cNvSpPr/>
            <p:nvPr/>
          </p:nvSpPr>
          <p:spPr>
            <a:xfrm>
              <a:off x="2484360" y="378936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484360" y="378936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484360" y="6381720"/>
            <a:ext cx="5832720" cy="1440"/>
            <a:chOff x="2484360" y="6381720"/>
            <a:chExt cx="5832720" cy="1440"/>
          </a:xfrm>
        </p:grpSpPr>
        <p:sp>
          <p:nvSpPr>
            <p:cNvPr id="51" name="Line 5"/>
            <p:cNvSpPr/>
            <p:nvPr/>
          </p:nvSpPr>
          <p:spPr>
            <a:xfrm>
              <a:off x="2484360" y="638172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2484360" y="638172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484360" y="5516640"/>
            <a:ext cx="5832720" cy="1440"/>
            <a:chOff x="2484360" y="5516640"/>
            <a:chExt cx="5832720" cy="1440"/>
          </a:xfrm>
        </p:grpSpPr>
        <p:sp>
          <p:nvSpPr>
            <p:cNvPr id="54" name="Line 6"/>
            <p:cNvSpPr/>
            <p:nvPr/>
          </p:nvSpPr>
          <p:spPr>
            <a:xfrm>
              <a:off x="2484360" y="551664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484360" y="551664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484360" y="4581360"/>
            <a:ext cx="5832720" cy="1800"/>
            <a:chOff x="2484360" y="4581360"/>
            <a:chExt cx="5832720" cy="1800"/>
          </a:xfrm>
        </p:grpSpPr>
        <p:sp>
          <p:nvSpPr>
            <p:cNvPr id="57" name="Line 7"/>
            <p:cNvSpPr/>
            <p:nvPr/>
          </p:nvSpPr>
          <p:spPr>
            <a:xfrm>
              <a:off x="2484360" y="4581360"/>
              <a:ext cx="583272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484360" y="4581360"/>
              <a:ext cx="5832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 Box 8"/>
          <p:cNvSpPr/>
          <p:nvPr/>
        </p:nvSpPr>
        <p:spPr>
          <a:xfrm>
            <a:off x="4264560" y="3716280"/>
            <a:ext cx="1840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0066"/>
                </a:solidFill>
                <a:latin typeface="Calibri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55400" y="40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翘舌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415280" cy="415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 flipH="1">
            <a:off x="3492360" y="692280"/>
            <a:ext cx="31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140360" y="2781360"/>
            <a:ext cx="4248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--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ɑ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—zh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—e--zh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—u--zhu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—u—o--zhu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108000" y="981000"/>
            <a:ext cx="350532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64000" y="981000"/>
            <a:ext cx="25146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1535040" y="3114720"/>
            <a:ext cx="5832720" cy="360"/>
            <a:chOff x="1535040" y="3114720"/>
            <a:chExt cx="5832720" cy="360"/>
          </a:xfrm>
        </p:grpSpPr>
        <p:sp>
          <p:nvSpPr>
            <p:cNvPr id="73" name="Line 4"/>
            <p:cNvSpPr/>
            <p:nvPr/>
          </p:nvSpPr>
          <p:spPr>
            <a:xfrm>
              <a:off x="1535040" y="311472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535040" y="311472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35040" y="6283440"/>
            <a:ext cx="5832720" cy="360"/>
            <a:chOff x="1535040" y="6283440"/>
            <a:chExt cx="5832720" cy="360"/>
          </a:xfrm>
        </p:grpSpPr>
        <p:sp>
          <p:nvSpPr>
            <p:cNvPr id="76" name="Line 5"/>
            <p:cNvSpPr/>
            <p:nvPr/>
          </p:nvSpPr>
          <p:spPr>
            <a:xfrm>
              <a:off x="1535040" y="628344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535040" y="628344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35040" y="5273640"/>
            <a:ext cx="5832720" cy="3240"/>
            <a:chOff x="1535040" y="5273640"/>
            <a:chExt cx="5832720" cy="3240"/>
          </a:xfrm>
        </p:grpSpPr>
        <p:sp>
          <p:nvSpPr>
            <p:cNvPr id="79" name="Line 6"/>
            <p:cNvSpPr/>
            <p:nvPr/>
          </p:nvSpPr>
          <p:spPr>
            <a:xfrm>
              <a:off x="1535040" y="5273640"/>
              <a:ext cx="5832720" cy="3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535040" y="5273640"/>
              <a:ext cx="5832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35040" y="4121280"/>
            <a:ext cx="5832720" cy="2880"/>
            <a:chOff x="1535040" y="4121280"/>
            <a:chExt cx="5832720" cy="2880"/>
          </a:xfrm>
        </p:grpSpPr>
        <p:sp>
          <p:nvSpPr>
            <p:cNvPr id="82" name="Line 7"/>
            <p:cNvSpPr/>
            <p:nvPr/>
          </p:nvSpPr>
          <p:spPr>
            <a:xfrm>
              <a:off x="1535040" y="4121280"/>
              <a:ext cx="5832720" cy="2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535040" y="4121280"/>
              <a:ext cx="583272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Text Box 8"/>
          <p:cNvSpPr/>
          <p:nvPr/>
        </p:nvSpPr>
        <p:spPr>
          <a:xfrm>
            <a:off x="3310200" y="3114720"/>
            <a:ext cx="2251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66"/>
                </a:solidFill>
                <a:latin typeface="Calibri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984000" y="882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844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 flipH="1">
            <a:off x="3784680" y="81108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24360" y="2565360"/>
            <a:ext cx="468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ch—ɑ—ch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ch—e—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ch—u—ch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ch—u—o--chu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9462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1044720" y="981000"/>
            <a:ext cx="373356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4861080" y="1054080"/>
            <a:ext cx="2709720" cy="208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139"/>
          <p:cNvPicPr/>
          <p:nvPr/>
        </p:nvPicPr>
        <p:blipFill>
          <a:blip r:embed="rId3"/>
          <a:stretch/>
        </p:blipFill>
        <p:spPr>
          <a:xfrm>
            <a:off x="7589880" y="3041640"/>
            <a:ext cx="16002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593720" y="3114720"/>
            <a:ext cx="5832720" cy="360"/>
            <a:chOff x="1593720" y="3114720"/>
            <a:chExt cx="5832720" cy="360"/>
          </a:xfrm>
        </p:grpSpPr>
        <p:sp>
          <p:nvSpPr>
            <p:cNvPr id="100" name="Line 5"/>
            <p:cNvSpPr/>
            <p:nvPr/>
          </p:nvSpPr>
          <p:spPr>
            <a:xfrm>
              <a:off x="1593720" y="311472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593720" y="311472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593720" y="4121280"/>
            <a:ext cx="5832720" cy="2880"/>
            <a:chOff x="1593720" y="4121280"/>
            <a:chExt cx="5832720" cy="2880"/>
          </a:xfrm>
        </p:grpSpPr>
        <p:sp>
          <p:nvSpPr>
            <p:cNvPr id="103" name="Line 6"/>
            <p:cNvSpPr/>
            <p:nvPr/>
          </p:nvSpPr>
          <p:spPr>
            <a:xfrm>
              <a:off x="1593720" y="4121280"/>
              <a:ext cx="5832720" cy="2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593720" y="4121280"/>
              <a:ext cx="583272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593720" y="5273640"/>
            <a:ext cx="5832720" cy="3240"/>
            <a:chOff x="1593720" y="5273640"/>
            <a:chExt cx="5832720" cy="3240"/>
          </a:xfrm>
        </p:grpSpPr>
        <p:sp>
          <p:nvSpPr>
            <p:cNvPr id="106" name="Line 7"/>
            <p:cNvSpPr/>
            <p:nvPr/>
          </p:nvSpPr>
          <p:spPr>
            <a:xfrm>
              <a:off x="1593720" y="5273640"/>
              <a:ext cx="5832720" cy="3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593720" y="5273640"/>
              <a:ext cx="5832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93720" y="6283440"/>
            <a:ext cx="5832720" cy="360"/>
            <a:chOff x="1593720" y="6283440"/>
            <a:chExt cx="5832720" cy="360"/>
          </a:xfrm>
        </p:grpSpPr>
        <p:sp>
          <p:nvSpPr>
            <p:cNvPr id="109" name="Line 8"/>
            <p:cNvSpPr/>
            <p:nvPr/>
          </p:nvSpPr>
          <p:spPr>
            <a:xfrm>
              <a:off x="1593720" y="628344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593720" y="628344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 Box 9"/>
          <p:cNvSpPr/>
          <p:nvPr/>
        </p:nvSpPr>
        <p:spPr>
          <a:xfrm>
            <a:off x="3332520" y="3114720"/>
            <a:ext cx="2181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66"/>
                </a:solidFill>
                <a:latin typeface="Calibri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541440" y="1982880"/>
            <a:ext cx="7829280" cy="4259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924360" y="836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788000" y="2708280"/>
            <a:ext cx="3816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h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ɑ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—sh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h—e—s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h—u—sh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h—u—o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hu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682600" y="1125360"/>
            <a:ext cx="201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18000" spc="-1" strike="noStrike">
                <a:solidFill>
                  <a:srgbClr val="ff0000"/>
                </a:solidFill>
                <a:latin typeface="Calibri"/>
              </a:rPr>
              <a:t>r 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702320" y="4608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re       r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h08-011"/>
          <p:cNvPicPr/>
          <p:nvPr/>
        </p:nvPicPr>
        <p:blipFill>
          <a:blip r:embed="rId1"/>
          <a:stretch/>
        </p:blipFill>
        <p:spPr>
          <a:xfrm>
            <a:off x="76320" y="1347840"/>
            <a:ext cx="4419360" cy="4524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2600" y="3556080"/>
            <a:ext cx="9296640" cy="360"/>
            <a:chOff x="12600" y="3556080"/>
            <a:chExt cx="9296640" cy="360"/>
          </a:xfrm>
        </p:grpSpPr>
        <p:sp>
          <p:nvSpPr>
            <p:cNvPr id="128" name="Line 2"/>
            <p:cNvSpPr/>
            <p:nvPr/>
          </p:nvSpPr>
          <p:spPr>
            <a:xfrm>
              <a:off x="12600" y="35560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2600" y="35560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600" y="4241880"/>
            <a:ext cx="9296640" cy="360"/>
            <a:chOff x="12600" y="4241880"/>
            <a:chExt cx="9296640" cy="360"/>
          </a:xfrm>
        </p:grpSpPr>
        <p:sp>
          <p:nvSpPr>
            <p:cNvPr id="131" name="Line 3"/>
            <p:cNvSpPr/>
            <p:nvPr/>
          </p:nvSpPr>
          <p:spPr>
            <a:xfrm>
              <a:off x="12600" y="42418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2600" y="42418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2600" y="4927680"/>
            <a:ext cx="9296640" cy="360"/>
            <a:chOff x="12600" y="4927680"/>
            <a:chExt cx="9296640" cy="360"/>
          </a:xfrm>
        </p:grpSpPr>
        <p:sp>
          <p:nvSpPr>
            <p:cNvPr id="134" name="Line 4"/>
            <p:cNvSpPr/>
            <p:nvPr/>
          </p:nvSpPr>
          <p:spPr>
            <a:xfrm>
              <a:off x="12600" y="49276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2600" y="49276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0" y="5661000"/>
            <a:ext cx="9296280" cy="360"/>
            <a:chOff x="34920" y="5661000"/>
            <a:chExt cx="9296280" cy="360"/>
          </a:xfrm>
        </p:grpSpPr>
        <p:sp>
          <p:nvSpPr>
            <p:cNvPr id="137" name="Line 5"/>
            <p:cNvSpPr/>
            <p:nvPr/>
          </p:nvSpPr>
          <p:spPr>
            <a:xfrm>
              <a:off x="34920" y="5661000"/>
              <a:ext cx="9296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4920" y="5661000"/>
              <a:ext cx="929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 Box 6"/>
          <p:cNvSpPr/>
          <p:nvPr/>
        </p:nvSpPr>
        <p:spPr>
          <a:xfrm>
            <a:off x="7333560" y="3387600"/>
            <a:ext cx="141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r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-25920" y="3448080"/>
            <a:ext cx="229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zh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287080" y="3403440"/>
            <a:ext cx="2325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ch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520560" y="1265400"/>
            <a:ext cx="10058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  <a:ea typeface="楷体_GB2312"/>
              </a:rPr>
              <a:t>zh  ch  sh  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65320" y="3403440"/>
            <a:ext cx="22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sh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32:00Z</dcterms:created>
  <dc:creator/>
  <dc:description/>
  <dc:language>en-US</dc:language>
  <cp:lastModifiedBy>啊啊</cp:lastModifiedBy>
  <dcterms:modified xsi:type="dcterms:W3CDTF">2017-06-24T15:03:18Z</dcterms:modified>
  <cp:revision>6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